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16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8.jpeg" ContentType="image/jpeg"/>
  <Override PartName="/ppt/media/image7.jpeg" ContentType="image/jpeg"/>
  <Override PartName="/ppt/media/camera.wav" ContentType="audio/x-wav"/>
  <Override PartName="/ppt/media/chimes.wav" ContentType="audio/x-wav"/>
  <Override PartName="/ppt/media/image21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image13.png" ContentType="image/png"/>
  <Override PartName="/ppt/media/image14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7640-E66D-49F4-AE6F-BD27AE5F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141D-4893-4C1F-9247-A0C29577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E3E6-BD03-4707-ACF5-EBA322EB9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4508-0104-4F5F-9B78-5918CE791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B5C9-0933-4D5B-9B65-361F01506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2DE4-D19D-418C-B242-941F7E52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752CF-B6A3-440C-9418-0D80975D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3CB4A-CEE2-4C03-BDE6-B006A3697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CBEC-635C-47C9-8A88-A12EB7500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62E8-4277-4E7A-85C0-6899A90B2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EC91-EEA9-47A8-83D4-78917E0AE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03AF-104D-4AA2-8F68-607E2D0E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C7D4-CE7F-47BA-A933-A6B359297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7BDB1-E5F4-404B-BA56-08E12D97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6E225-FCD7-44D9-859A-D498AFDE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856E5-C4B2-431C-A800-87E8F5B9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48D4D-1A83-4A55-9F92-7C97DEBC2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0845-B407-4C80-B5A3-568C2FC75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C195-8FE0-4DA2-A6FB-BB7A1199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FE5E-68CF-429C-890E-2C20E91C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DAC4-29D0-44AB-85C4-8E5183261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6DEF-1F61-413B-807C-148974C79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A5357-C04C-472A-87B9-2BAEBB2FE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EC090-C0F4-446E-AAD4-C6A709239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CECD0-B458-4672-AFD1-34380996AD57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61F4-845D-4D61-B0AF-9360A2560984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.xml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55640" y="44280"/>
            <a:ext cx="777564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华文新魏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990000"/>
                </a:solidFill>
                <a:latin typeface="华文新魏"/>
                <a:ea typeface="华文新魏"/>
              </a:rPr>
              <a:t>、中华人民共和国第一任中央人民政府主席是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华文新魏"/>
                <a:ea typeface="华文新魏"/>
              </a:rPr>
              <a:t>2.</a:t>
            </a:r>
            <a:r>
              <a:rPr b="1" lang="zh-CN" sz="4400" spc="-1" strike="noStrike">
                <a:solidFill>
                  <a:srgbClr val="990000"/>
                </a:solidFill>
                <a:latin typeface="华文新魏"/>
                <a:ea typeface="华文新魏"/>
              </a:rPr>
              <a:t>中华人民共和国第一任外交部长是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华文新魏"/>
                <a:ea typeface="华文新魏"/>
              </a:rPr>
              <a:t>3.</a:t>
            </a:r>
            <a:r>
              <a:rPr b="1" lang="zh-CN" sz="4400" spc="-1" strike="noStrike">
                <a:solidFill>
                  <a:srgbClr val="990000"/>
                </a:solidFill>
                <a:latin typeface="华文新魏"/>
                <a:ea typeface="华文新魏"/>
              </a:rPr>
              <a:t>祖国大陆实现统一的标志是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华文新魏"/>
                <a:ea typeface="华文新魏"/>
              </a:rPr>
              <a:t>4.</a:t>
            </a:r>
            <a:r>
              <a:rPr b="1" lang="zh-CN" sz="4400" spc="-1" strike="noStrike">
                <a:solidFill>
                  <a:srgbClr val="990000"/>
                </a:solidFill>
                <a:latin typeface="华文新魏"/>
                <a:ea typeface="华文新魏"/>
              </a:rPr>
              <a:t>达成和平解放西藏协议时的西藏地方政府的首席代表是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788000" y="76500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毛泽东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627280" y="249228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周恩来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16360" y="4076640"/>
            <a:ext cx="446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50920" y="4005360"/>
            <a:ext cx="410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西藏和平解放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79640" y="5805360"/>
            <a:ext cx="475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阿沛•阿旺晋美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826920" y="5425920"/>
            <a:ext cx="792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华文新魏"/>
              </a:rPr>
              <a:t>美国飞机侵入中国领空、中国居民惨遭轰炸 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424720" cy="57214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258920" y="61009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美国第七舰队封锁我台湾海峡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826920" y="260280"/>
            <a:ext cx="7777440" cy="5192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18" name=""/>
          <p:cNvSpPr/>
          <p:nvPr/>
        </p:nvSpPr>
        <p:spPr>
          <a:xfrm>
            <a:off x="2820240" y="5622840"/>
            <a:ext cx="4569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华文新魏"/>
              </a:rPr>
              <a:t>美国《新闻与世界报导》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华文新魏"/>
              </a:rPr>
              <a:t>登载的美国第七舰队入侵台湾海峡的消息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692360" y="620640"/>
            <a:ext cx="6192720" cy="49482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0" name=""/>
          <p:cNvSpPr/>
          <p:nvPr/>
        </p:nvSpPr>
        <p:spPr>
          <a:xfrm>
            <a:off x="3654360" y="5791320"/>
            <a:ext cx="261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华文新魏"/>
                <a:ea typeface="华文新魏"/>
              </a:rPr>
              <a:t>1950</a:t>
            </a:r>
            <a:r>
              <a:rPr b="1" lang="zh-CN" sz="2800" spc="-1" strike="noStrike">
                <a:solidFill>
                  <a:srgbClr val="cc3300"/>
                </a:solidFill>
                <a:latin typeface="华文新魏"/>
                <a:ea typeface="华文新魏"/>
              </a:rPr>
              <a:t>年</a:t>
            </a:r>
            <a:r>
              <a:rPr b="1" lang="zh-CN" sz="2800" spc="-1" strike="noStrike">
                <a:solidFill>
                  <a:srgbClr val="cc3300"/>
                </a:solidFill>
                <a:latin typeface="华文新魏"/>
                <a:ea typeface="华文新魏"/>
              </a:rPr>
              <a:t>10</a:t>
            </a:r>
            <a:r>
              <a:rPr b="1" lang="zh-CN" sz="2800" spc="-1" strike="noStrike">
                <a:solidFill>
                  <a:srgbClr val="cc3300"/>
                </a:solidFill>
                <a:latin typeface="华文新魏"/>
                <a:ea typeface="华文新魏"/>
              </a:rPr>
              <a:t>月</a:t>
            </a:r>
            <a:r>
              <a:rPr b="1" lang="zh-CN" sz="2800" spc="-1" strike="noStrike">
                <a:solidFill>
                  <a:srgbClr val="cc3300"/>
                </a:solidFill>
                <a:latin typeface="华文新魏"/>
                <a:ea typeface="华文新魏"/>
              </a:rPr>
              <a:t>1</a:t>
            </a:r>
            <a:r>
              <a:rPr b="1" lang="zh-CN" sz="2800" spc="-1" strike="noStrike">
                <a:solidFill>
                  <a:srgbClr val="cc3300"/>
                </a:solidFill>
                <a:latin typeface="华文新魏"/>
                <a:ea typeface="华文新魏"/>
              </a:rPr>
              <a:t>日，朝鲜党和政府领导人金日成、朴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华文新魏"/>
                <a:ea typeface="华文新魏"/>
              </a:rPr>
              <a:t>宪永紧急致函毛泽东主席，请求中国出兵援助朝鲜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31920" y="620640"/>
            <a:ext cx="6680160" cy="5033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914400" y="5715000"/>
            <a:ext cx="8061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黑体"/>
              </a:rPr>
              <a:t>  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华文新魏"/>
              </a:rPr>
              <a:t>中共中央和毛泽东主席毅然作出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华文新魏"/>
              </a:rPr>
              <a:t>“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华文新魏"/>
              </a:rPr>
              <a:t>抗美援朝、保家卫国”的重大战略决策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539640" y="33336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华文新魏"/>
              </a:rPr>
              <a:t>   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华文新魏"/>
              </a:rPr>
              <a:t>、经过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55640" y="126828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339933"/>
                </a:solidFill>
                <a:latin typeface="Arial"/>
                <a:ea typeface="华文新魏"/>
              </a:rPr>
              <a:t>1950</a:t>
            </a:r>
            <a:r>
              <a:rPr b="1" lang="zh-CN" sz="3600" spc="-1" strike="noStrike">
                <a:solidFill>
                  <a:srgbClr val="339933"/>
                </a:solidFill>
                <a:latin typeface="Arial"/>
                <a:ea typeface="华文新魏"/>
              </a:rPr>
              <a:t>年</a:t>
            </a:r>
            <a:r>
              <a:rPr b="1" lang="zh-CN" sz="3600" spc="-1" strike="noStrike">
                <a:solidFill>
                  <a:srgbClr val="339933"/>
                </a:solidFill>
                <a:latin typeface="Arial"/>
                <a:ea typeface="华文新魏"/>
              </a:rPr>
              <a:t>10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华文新魏"/>
              </a:rPr>
              <a:t>月，以</a:t>
            </a:r>
            <a:r>
              <a:rPr b="1" lang="zh-CN" sz="3600" spc="-1" strike="noStrike">
                <a:solidFill>
                  <a:srgbClr val="339933"/>
                </a:solidFill>
                <a:latin typeface="Arial"/>
                <a:ea typeface="华文新魏"/>
              </a:rPr>
              <a:t>彭德怀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华文新魏"/>
              </a:rPr>
              <a:t>为司令员的中国人民志愿军开赴朝鲜，与朝鲜人民一起，抗击美国侵略者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1300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华文新魏"/>
              </a:rPr>
              <a:t>B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华文新魏"/>
              </a:rPr>
              <a:t>、中国人民志愿军五战五捷，把美军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华文新魏"/>
              </a:rPr>
              <a:t>	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华文新魏"/>
              </a:rPr>
              <a:t>赶回“三八线”附近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4360" y="458136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华文新魏"/>
              </a:rPr>
              <a:t>C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华文新魏"/>
              </a:rPr>
              <a:t>、英雄人物   </a:t>
            </a:r>
            <a:r>
              <a:rPr b="1" lang="zh-CN" sz="3600" spc="-1" strike="noStrike" u="sng">
                <a:solidFill>
                  <a:srgbClr val="0066ff"/>
                </a:solidFill>
                <a:uFillTx/>
                <a:latin typeface="Arial"/>
                <a:ea typeface="华文新魏"/>
              </a:rPr>
              <a:t>黄继光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华文新魏"/>
              </a:rPr>
              <a:t>、</a:t>
            </a:r>
            <a:r>
              <a:rPr b="1" lang="zh-CN" sz="3600" spc="-1" strike="noStrike" u="sng">
                <a:solidFill>
                  <a:srgbClr val="0066ff"/>
                </a:solidFill>
                <a:uFillTx/>
                <a:latin typeface="Arial"/>
                <a:ea typeface="华文新魏"/>
              </a:rPr>
              <a:t>邱少云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5715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"/>
                <a:ea typeface="华文新魏"/>
              </a:rPr>
              <a:t> 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54450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D</a:t>
            </a: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、朝中军民并肩作战打败美国侵略者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1280" y="6093000"/>
            <a:ext cx="50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1953</a:t>
            </a: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7 </a:t>
            </a: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《朝鲜停战协定》）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68360" y="5425920"/>
            <a:ext cx="8353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华文新魏"/>
              </a:rPr>
              <a:t>1950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华文新魏"/>
              </a:rPr>
              <a:t>年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华文新魏"/>
              </a:rPr>
              <a:t>10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华文新魏"/>
              </a:rPr>
              <a:t>月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华文新魏"/>
              </a:rPr>
              <a:t>19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华文新魏"/>
              </a:rPr>
              <a:t>日，中国人民志愿军跨过鸭绿江，奔赴朝鲜战场 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9261" y="7301"/>
                </a:moveTo>
                <a:lnTo>
                  <a:pt x="10175" y="7301"/>
                </a:lnTo>
                <a:lnTo>
                  <a:pt x="10558" y="7667"/>
                </a:lnTo>
                <a:lnTo>
                  <a:pt x="19766" y="7667"/>
                </a:lnTo>
                <a:lnTo>
                  <a:pt x="20323" y="8224"/>
                </a:lnTo>
                <a:lnTo>
                  <a:pt x="20323" y="8772"/>
                </a:lnTo>
                <a:lnTo>
                  <a:pt x="22168" y="8772"/>
                </a:lnTo>
                <a:lnTo>
                  <a:pt x="22534" y="8224"/>
                </a:lnTo>
                <a:lnTo>
                  <a:pt x="23274" y="8224"/>
                </a:lnTo>
                <a:lnTo>
                  <a:pt x="23274" y="13376"/>
                </a:lnTo>
                <a:lnTo>
                  <a:pt x="22534" y="13376"/>
                </a:lnTo>
                <a:lnTo>
                  <a:pt x="22168" y="12828"/>
                </a:lnTo>
                <a:lnTo>
                  <a:pt x="20323" y="12828"/>
                </a:lnTo>
                <a:lnTo>
                  <a:pt x="20323" y="14107"/>
                </a:lnTo>
                <a:lnTo>
                  <a:pt x="10741" y="14107"/>
                </a:lnTo>
                <a:lnTo>
                  <a:pt x="10741" y="9877"/>
                </a:lnTo>
                <a:lnTo>
                  <a:pt x="10558" y="9877"/>
                </a:lnTo>
                <a:lnTo>
                  <a:pt x="10175" y="10243"/>
                </a:lnTo>
                <a:lnTo>
                  <a:pt x="9261" y="10243"/>
                </a:lnTo>
                <a:close/>
              </a:path>
            </a:pathLst>
          </a:custGeom>
          <a:solidFill>
            <a:srgbClr val="c0c0c0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203640" y="2581200"/>
            <a:ext cx="5940360" cy="42768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003560" cy="5229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427640" y="476280"/>
            <a:ext cx="38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中国人民踊跃报名参加志愿军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23200" y="537372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中国人民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支援前线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2124000" y="620640"/>
          <a:ext cx="5761080" cy="2087640"/>
        </p:xfrm>
        <a:graphic>
          <a:graphicData uri="http://schemas.openxmlformats.org/drawingml/2006/table">
            <a:tbl>
              <a:tblPr/>
              <a:tblGrid>
                <a:gridCol w="2733840"/>
                <a:gridCol w="3027240"/>
              </a:tblGrid>
              <a:tr h="976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捐献款</a:t>
                      </a:r>
                      <a:endParaRPr b="0" lang="en-US" sz="4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55650</a:t>
                      </a:r>
                      <a:r>
                        <a:rPr b="1" lang="zh-CN" sz="4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亿元</a:t>
                      </a:r>
                      <a:endParaRPr b="0" lang="en-US" sz="4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6600cc"/>
                    </a:solidFill>
                  </a:tcPr>
                </a:tc>
              </a:tr>
              <a:tr h="1111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可买飞机</a:t>
                      </a:r>
                      <a:endParaRPr b="0" lang="en-US" sz="4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6600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3710</a:t>
                      </a:r>
                      <a:r>
                        <a:rPr b="1" lang="zh-CN" sz="4000" spc="-1" strike="noStrike">
                          <a:solidFill>
                            <a:srgbClr val="ffff00"/>
                          </a:solidFill>
                          <a:latin typeface="宋体"/>
                        </a:rPr>
                        <a:t>架</a:t>
                      </a:r>
                      <a:endParaRPr b="0" lang="en-US" sz="4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80808"/>
                      </a:solidFill>
                    </a:lnL>
                    <a:lnR w="5760">
                      <a:solidFill>
                        <a:srgbClr val="080808"/>
                      </a:solidFill>
                    </a:lnR>
                    <a:lnT w="5760">
                      <a:solidFill>
                        <a:srgbClr val="080808"/>
                      </a:solidFill>
                    </a:lnT>
                    <a:lnB w="5760">
                      <a:solidFill>
                        <a:srgbClr val="080808"/>
                      </a:solidFill>
                    </a:lnB>
                    <a:solidFill>
                      <a:srgbClr val="6600cc"/>
                    </a:solidFill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1547640" y="3357720"/>
            <a:ext cx="7056720" cy="119124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这是截至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1952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年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月全国人民捐献的款项，此数为旧人民币金额，折合新人民币为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5.5650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亿元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99600" y="-26640"/>
            <a:ext cx="729000" cy="63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9ac"/>
                </a:solidFill>
                <a:latin typeface="Arial"/>
              </a:rPr>
              <a:t>中国人民踊跃支援前线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1763640" y="0"/>
            <a:ext cx="547236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 rot="10421400">
            <a:off x="14040" y="1851120"/>
            <a:ext cx="1547640" cy="1079280"/>
          </a:xfrm>
          <a:prstGeom prst="wedgeRectCallout">
            <a:avLst>
              <a:gd name="adj1" fmla="val -173518"/>
              <a:gd name="adj2" fmla="val 60712"/>
            </a:avLst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844640"/>
            <a:ext cx="17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新魏"/>
              </a:rPr>
              <a:t>第一次战役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0421400">
            <a:off x="6814800" y="1696320"/>
            <a:ext cx="1584360" cy="1297080"/>
          </a:xfrm>
          <a:prstGeom prst="wedgeRectCallout">
            <a:avLst>
              <a:gd name="adj1" fmla="val 192250"/>
              <a:gd name="adj2" fmla="val 82018"/>
            </a:avLst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48360" y="191628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新魏"/>
              </a:rPr>
              <a:t>第二次战役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0421400">
            <a:off x="7308360" y="4075920"/>
            <a:ext cx="1584360" cy="1297080"/>
          </a:xfrm>
          <a:prstGeom prst="wedgeRectCallout">
            <a:avLst>
              <a:gd name="adj1" fmla="val 192250"/>
              <a:gd name="adj2" fmla="val 82018"/>
            </a:avLst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451640" y="4292640"/>
            <a:ext cx="16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新魏"/>
              </a:rPr>
              <a:t>第三次战役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rot="10421400">
            <a:off x="826560" y="4580640"/>
            <a:ext cx="1584360" cy="1297080"/>
          </a:xfrm>
          <a:prstGeom prst="wedgeRectCallout">
            <a:avLst>
              <a:gd name="adj1" fmla="val -179046"/>
              <a:gd name="adj2" fmla="val 99472"/>
            </a:avLst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4653000"/>
            <a:ext cx="187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新魏"/>
              </a:rPr>
              <a:t>第四第五次战役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924360" y="6095880"/>
            <a:ext cx="360036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华文新魏"/>
              </a:rPr>
              <a:t>共歼敌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华文新魏"/>
              </a:rPr>
              <a:t>23</a:t>
            </a: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华文新魏"/>
              </a:rPr>
              <a:t>万人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55640" y="76500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华文新魏"/>
                <a:ea typeface="华文新魏"/>
              </a:rPr>
              <a:t>5.</a:t>
            </a:r>
            <a:r>
              <a:rPr b="1" lang="zh-CN" sz="4400" spc="-1" strike="noStrike">
                <a:solidFill>
                  <a:srgbClr val="990000"/>
                </a:solidFill>
                <a:latin typeface="华文新魏"/>
                <a:ea typeface="华文新魏"/>
              </a:rPr>
              <a:t>列举第一届中国人民政治协商会议的内容。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53760" y="2211480"/>
            <a:ext cx="79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制定了《共同纲领》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94000" y="292428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选举国家主席：毛泽东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39840" y="3664080"/>
            <a:ext cx="64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确定了国旗、国歌、首都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86920" y="45277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采用公元纪年法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18960" y="53802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Times New Roman"/>
              </a:rPr>
              <a:t>建立一座人民英雄纪念碑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3956040" cy="53276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51" name=""/>
          <p:cNvSpPr/>
          <p:nvPr/>
        </p:nvSpPr>
        <p:spPr>
          <a:xfrm>
            <a:off x="250920" y="5805360"/>
            <a:ext cx="66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黄继光（</a:t>
            </a: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1935-1952</a:t>
            </a: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年）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03640" y="404640"/>
            <a:ext cx="360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360360"/>
            <a:ext cx="37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四川省人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1951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年加入中国人民志愿军，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1952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年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10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月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20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日在上甘岭战役中被敌人一个集团火力点所阻，部队伤亡很大，不能前进，他挺身而出，担任爆破任务，打到敌人几个火力点后，发现还有一个火力点，严重影响部队前进。他忍着剧痛以胸膛堵住正在扫射的机枪口，保证部队完成任务，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1953</a:t>
            </a:r>
            <a:r>
              <a:rPr b="1" lang="zh-CN" sz="24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年被授予中国人民志愿军特级英雄称号，还荣获朝鲜民主主义人民共和国英雄称号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250920" y="765000"/>
            <a:ext cx="4752720" cy="49564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250920" y="595008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邱少云</a:t>
            </a: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(1926-1952)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148360" y="0"/>
            <a:ext cx="399564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四川省人，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1949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年加入中国人民解放军，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1951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年加入中国人民志愿军，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1952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年在朝鲜金山化以西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391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高地战斗中，敌人突然发动袭击，敌人燃烧弹引起的烈火烧到他身上，为了不暴露部队埋伏地点，他忍着剧痛，坚持不动，直到壮烈牺牲，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1953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华文新魏"/>
              </a:rPr>
              <a:t>年他被授予中国人民志愿军一级英雄称号。还荣获朝鲜民主主义人民共和国英雄称号及金星奖章、一级国旗勋章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4969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395280" y="5425920"/>
            <a:ext cx="8424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华文新魏"/>
              </a:rPr>
              <a:t>我方代表南日大将与联合国军代表哈利逊在板门店正式签字 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01080" y="6165720"/>
            <a:ext cx="1042920" cy="692280"/>
          </a:xfrm>
          <a:custGeom>
            <a:avLst/>
            <a:gdLst>
              <a:gd name="textAreaLeft" fmla="*/ 44640 w 1042920"/>
              <a:gd name="textAreaRight" fmla="*/ 998280 w 1042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32535" h="21600">
                <a:moveTo>
                  <a:pt x="0" y="0"/>
                </a:moveTo>
                <a:lnTo>
                  <a:pt x="32535" y="0"/>
                </a:lnTo>
                <a:lnTo>
                  <a:pt x="32535" y="21600"/>
                </a:lnTo>
                <a:lnTo>
                  <a:pt x="0" y="21600"/>
                </a:lnTo>
                <a:close/>
              </a:path>
              <a:path fill="lightenLess" w="32535" h="21600">
                <a:moveTo>
                  <a:pt x="0" y="0"/>
                </a:moveTo>
                <a:lnTo>
                  <a:pt x="32535" y="0"/>
                </a:lnTo>
                <a:lnTo>
                  <a:pt x="31135" y="1400"/>
                </a:lnTo>
                <a:lnTo>
                  <a:pt x="1400" y="1400"/>
                </a:lnTo>
                <a:close/>
              </a:path>
              <a:path fill="darken" w="32535" h="21600">
                <a:moveTo>
                  <a:pt x="32535" y="0"/>
                </a:moveTo>
                <a:lnTo>
                  <a:pt x="32535" y="21600"/>
                </a:lnTo>
                <a:lnTo>
                  <a:pt x="31135" y="20200"/>
                </a:lnTo>
                <a:lnTo>
                  <a:pt x="31135" y="1400"/>
                </a:lnTo>
                <a:close/>
              </a:path>
              <a:path fill="darkenLess" w="32535" h="21600">
                <a:moveTo>
                  <a:pt x="325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35" y="20200"/>
                </a:lnTo>
                <a:close/>
              </a:path>
              <a:path fill="lighten" w="325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35" h="21600">
                <a:moveTo>
                  <a:pt x="9261" y="7301"/>
                </a:moveTo>
                <a:lnTo>
                  <a:pt x="10175" y="7301"/>
                </a:lnTo>
                <a:lnTo>
                  <a:pt x="10558" y="7667"/>
                </a:lnTo>
                <a:lnTo>
                  <a:pt x="19766" y="7667"/>
                </a:lnTo>
                <a:lnTo>
                  <a:pt x="20323" y="8224"/>
                </a:lnTo>
                <a:lnTo>
                  <a:pt x="20323" y="8772"/>
                </a:lnTo>
                <a:lnTo>
                  <a:pt x="22168" y="8772"/>
                </a:lnTo>
                <a:lnTo>
                  <a:pt x="22534" y="8224"/>
                </a:lnTo>
                <a:lnTo>
                  <a:pt x="23274" y="8224"/>
                </a:lnTo>
                <a:lnTo>
                  <a:pt x="23274" y="13376"/>
                </a:lnTo>
                <a:lnTo>
                  <a:pt x="22534" y="13376"/>
                </a:lnTo>
                <a:lnTo>
                  <a:pt x="22168" y="12828"/>
                </a:lnTo>
                <a:lnTo>
                  <a:pt x="20323" y="12828"/>
                </a:lnTo>
                <a:lnTo>
                  <a:pt x="20323" y="14107"/>
                </a:lnTo>
                <a:lnTo>
                  <a:pt x="10741" y="14107"/>
                </a:lnTo>
                <a:lnTo>
                  <a:pt x="10741" y="9877"/>
                </a:lnTo>
                <a:lnTo>
                  <a:pt x="10558" y="9877"/>
                </a:lnTo>
                <a:lnTo>
                  <a:pt x="10175" y="10243"/>
                </a:lnTo>
                <a:lnTo>
                  <a:pt x="9261" y="10243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61" name=""/>
          <p:cNvSpPr/>
          <p:nvPr/>
        </p:nvSpPr>
        <p:spPr>
          <a:xfrm>
            <a:off x="0" y="26028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华文新魏"/>
                <a:ea typeface="华文新魏"/>
              </a:rPr>
              <a:t>中朝友谊纪念碑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39640" y="836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1</a:t>
            </a:r>
            <a:r>
              <a:rPr b="1" lang="zh-CN" sz="5400" spc="-1" strike="noStrike">
                <a:solidFill>
                  <a:srgbClr val="a50021"/>
                </a:solidFill>
                <a:latin typeface="Times New Roman"/>
                <a:ea typeface="华文新魏"/>
              </a:rPr>
              <a:t>、土地改革的必要性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2133720"/>
            <a:ext cx="76201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华文新魏"/>
              </a:rPr>
              <a:t>必要性</a:t>
            </a: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华文新魏"/>
              </a:rPr>
              <a:t>: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华文新魏"/>
              </a:rPr>
              <a:t>封建土地制度严重阻碍了农村经济和中国社会的发展；广大农民迫切要求进行土地改革，获得土地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250920" y="333360"/>
            <a:ext cx="5616360" cy="6120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5867280" y="620640"/>
            <a:ext cx="2737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  <a:ea typeface="华文新魏"/>
              </a:rPr>
              <a:t>土地改革前我国广大农民的生活十分贫困。这幅图所反映的正是当时四川一个农民贫苦生活的情形。身后的草棚就是他们的住处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04920" y="981000"/>
            <a:ext cx="883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Verdana"/>
                <a:ea typeface="华文行楷"/>
              </a:rPr>
              <a:t>2</a:t>
            </a:r>
            <a:r>
              <a:rPr b="1" lang="zh-CN" sz="5400" spc="-1" strike="noStrike">
                <a:solidFill>
                  <a:srgbClr val="a50021"/>
                </a:solidFill>
                <a:latin typeface="Verdana"/>
                <a:ea typeface="华文行楷"/>
              </a:rPr>
              <a:t>、土地改革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华文新魏"/>
              </a:rPr>
              <a:t>	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华文新魏"/>
              </a:rPr>
              <a:t>	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华文新魏"/>
              </a:rPr>
              <a:t>	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华文新魏"/>
              </a:rPr>
              <a:t>	</a:t>
            </a: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华文新魏"/>
              </a:rPr>
              <a:t>                               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227664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Verdana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cc3300"/>
                </a:solidFill>
                <a:latin typeface="Verdana"/>
                <a:ea typeface="华文新魏"/>
              </a:rPr>
              <a:t>、</a:t>
            </a:r>
            <a:r>
              <a:rPr b="1" lang="zh-CN" sz="3600" spc="-1" strike="noStrike">
                <a:solidFill>
                  <a:srgbClr val="006600"/>
                </a:solidFill>
                <a:latin typeface="Verdana"/>
                <a:ea typeface="华文新魏"/>
              </a:rPr>
              <a:t>1950</a:t>
            </a:r>
            <a:r>
              <a:rPr b="1" lang="zh-CN" sz="3600" spc="-1" strike="noStrike">
                <a:solidFill>
                  <a:srgbClr val="006600"/>
                </a:solidFill>
                <a:latin typeface="Verdana"/>
                <a:ea typeface="华文新魏"/>
              </a:rPr>
              <a:t>年</a:t>
            </a:r>
            <a:r>
              <a:rPr b="1" lang="zh-CN" sz="3600" spc="-1" strike="noStrike">
                <a:solidFill>
                  <a:srgbClr val="006600"/>
                </a:solidFill>
                <a:latin typeface="Verdana"/>
                <a:ea typeface="华文新魏"/>
              </a:rPr>
              <a:t>6</a:t>
            </a:r>
            <a:r>
              <a:rPr b="1" lang="zh-CN" sz="3600" spc="-1" strike="noStrike">
                <a:solidFill>
                  <a:srgbClr val="006600"/>
                </a:solidFill>
                <a:latin typeface="Verdana"/>
                <a:ea typeface="华文新魏"/>
              </a:rPr>
              <a:t>月</a:t>
            </a:r>
            <a:r>
              <a:rPr b="1" lang="zh-CN" sz="3600" spc="-1" strike="noStrike">
                <a:solidFill>
                  <a:srgbClr val="cc3300"/>
                </a:solidFill>
                <a:latin typeface="Verdana"/>
                <a:ea typeface="华文新魏"/>
              </a:rPr>
              <a:t>，中央人民政府公布了</a:t>
            </a:r>
            <a:r>
              <a:rPr b="1" lang="zh-CN" sz="3600" spc="-1" strike="noStrike">
                <a:solidFill>
                  <a:srgbClr val="006600"/>
                </a:solidFill>
                <a:latin typeface="Verdana"/>
                <a:ea typeface="华文新魏"/>
              </a:rPr>
              <a:t>《中华人民共和国土地改革法》</a:t>
            </a:r>
            <a:r>
              <a:rPr b="0" lang="zh-CN" sz="3600" spc="-1" strike="noStrike">
                <a:solidFill>
                  <a:srgbClr val="cc3300"/>
                </a:solidFill>
                <a:latin typeface="Verdana"/>
                <a:ea typeface="华文新魏"/>
              </a:rPr>
              <a:t>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95280" y="3933720"/>
            <a:ext cx="80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00"/>
                </a:solidFill>
                <a:latin typeface="Verdana"/>
                <a:ea typeface="华文新魏"/>
              </a:rPr>
              <a:t>2</a:t>
            </a:r>
            <a:r>
              <a:rPr b="0" lang="zh-CN" sz="4000" spc="-1" strike="noStrike">
                <a:solidFill>
                  <a:srgbClr val="cc3300"/>
                </a:solidFill>
                <a:latin typeface="Verdana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006600"/>
                </a:solidFill>
                <a:latin typeface="Verdana"/>
                <a:ea typeface="华文新魏"/>
              </a:rPr>
              <a:t>内容</a:t>
            </a:r>
            <a:r>
              <a:rPr b="1" lang="zh-CN" sz="4000" spc="-1" strike="noStrike">
                <a:solidFill>
                  <a:srgbClr val="006600"/>
                </a:solidFill>
                <a:latin typeface="Verdana"/>
                <a:ea typeface="华文新魏"/>
              </a:rPr>
              <a:t>:</a:t>
            </a:r>
            <a:r>
              <a:rPr b="0" lang="zh-CN" sz="4000" spc="-1" strike="noStrike">
                <a:solidFill>
                  <a:srgbClr val="cc3300"/>
                </a:solidFill>
                <a:latin typeface="Verdana"/>
                <a:ea typeface="华文新魏"/>
              </a:rPr>
              <a:t> </a:t>
            </a:r>
            <a:r>
              <a:rPr b="1" lang="zh-CN" sz="4000" spc="-1" strike="noStrike" u="sng">
                <a:solidFill>
                  <a:srgbClr val="006600"/>
                </a:solidFill>
                <a:uFillTx/>
                <a:latin typeface="Verdana"/>
                <a:ea typeface="华文新魏"/>
              </a:rPr>
              <a:t>废除地主阶级封建剥削的土地所有制，实行农民的土地所有制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1447920" y="533520"/>
            <a:ext cx="3149640" cy="49370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70" name="" descr=""/>
          <p:cNvPicPr/>
          <p:nvPr/>
        </p:nvPicPr>
        <p:blipFill>
          <a:blip r:embed="rId3"/>
          <a:stretch/>
        </p:blipFill>
        <p:spPr>
          <a:xfrm>
            <a:off x="4648320" y="533520"/>
            <a:ext cx="3384360" cy="4952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71" name=""/>
          <p:cNvSpPr/>
          <p:nvPr/>
        </p:nvSpPr>
        <p:spPr>
          <a:xfrm>
            <a:off x="1600200" y="5638680"/>
            <a:ext cx="675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华文新魏"/>
                <a:ea typeface="华文新魏"/>
              </a:rPr>
              <a:t>1950</a:t>
            </a:r>
            <a:r>
              <a:rPr b="1" lang="zh-CN" sz="3200" spc="-1" strike="noStrike">
                <a:solidFill>
                  <a:srgbClr val="cc3300"/>
                </a:solidFill>
                <a:latin typeface="华文新魏"/>
                <a:ea typeface="华文新魏"/>
              </a:rPr>
              <a:t>年</a:t>
            </a:r>
            <a:r>
              <a:rPr b="1" lang="zh-CN" sz="3200" spc="-1" strike="noStrike">
                <a:solidFill>
                  <a:srgbClr val="cc3300"/>
                </a:solidFill>
                <a:latin typeface="华文新魏"/>
                <a:ea typeface="华文新魏"/>
              </a:rPr>
              <a:t>6</a:t>
            </a:r>
            <a:r>
              <a:rPr b="1" lang="zh-CN" sz="3200" spc="-1" strike="noStrike">
                <a:solidFill>
                  <a:srgbClr val="cc3300"/>
                </a:solidFill>
                <a:latin typeface="华文新魏"/>
                <a:ea typeface="华文新魏"/>
              </a:rPr>
              <a:t>月，中央人民政府颁布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华文新魏"/>
                <a:ea typeface="华文新魏"/>
              </a:rPr>
              <a:t>的《中华人民共和国土地改革法》</a:t>
            </a:r>
            <a:r>
              <a:rPr b="1" lang="zh-CN" sz="3200" spc="-1" strike="noStrike">
                <a:solidFill>
                  <a:srgbClr val="cc3300"/>
                </a:solidFill>
                <a:latin typeface="华文新魏"/>
                <a:ea typeface="华文新魏"/>
              </a:rPr>
              <a:t>.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17440" y="900000"/>
            <a:ext cx="845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Verdana"/>
                <a:ea typeface="华文行楷"/>
              </a:rPr>
              <a:t>3</a:t>
            </a:r>
            <a:r>
              <a:rPr b="1" lang="zh-CN" sz="5400" spc="-1" strike="noStrike">
                <a:solidFill>
                  <a:srgbClr val="a50021"/>
                </a:solidFill>
                <a:latin typeface="Verdana"/>
                <a:ea typeface="华文行楷"/>
              </a:rPr>
              <a:t>、土地改革的开展及完成     </a:t>
            </a:r>
            <a:r>
              <a:rPr b="1" lang="zh-CN" sz="5400" spc="-1" strike="noStrike">
                <a:solidFill>
                  <a:srgbClr val="a50021"/>
                </a:solidFill>
                <a:latin typeface="Verdana"/>
                <a:ea typeface="华文行楷"/>
              </a:rPr>
              <a:t>	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2349360"/>
            <a:ext cx="8534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华文新魏"/>
              </a:rPr>
              <a:t>、开始的时间</a:t>
            </a:r>
            <a:r>
              <a:rPr b="1" lang="zh-CN" sz="4000" spc="-1" strike="noStrike">
                <a:solidFill>
                  <a:srgbClr val="006600"/>
                </a:solidFill>
                <a:latin typeface="Verdana"/>
                <a:ea typeface="华文新魏"/>
              </a:rPr>
              <a:t>:</a:t>
            </a:r>
            <a:r>
              <a:rPr b="1" lang="zh-CN" sz="4000" spc="-1" strike="noStrike" u="sng">
                <a:solidFill>
                  <a:srgbClr val="006600"/>
                </a:solidFill>
                <a:uFillTx/>
                <a:latin typeface="Verdana"/>
                <a:ea typeface="华文新魏"/>
              </a:rPr>
              <a:t>1950</a:t>
            </a:r>
            <a:r>
              <a:rPr b="1" lang="zh-CN" sz="4000" spc="-1" strike="noStrike" u="sng">
                <a:solidFill>
                  <a:srgbClr val="006600"/>
                </a:solidFill>
                <a:uFillTx/>
                <a:latin typeface="Verdana"/>
                <a:ea typeface="华文新魏"/>
              </a:rPr>
              <a:t>年冬</a:t>
            </a:r>
            <a:r>
              <a:rPr b="1" lang="zh-CN" sz="4000" spc="-1" strike="noStrike">
                <a:solidFill>
                  <a:srgbClr val="006600"/>
                </a:solidFill>
                <a:latin typeface="Verdana"/>
                <a:ea typeface="华文新魏"/>
              </a:rPr>
              <a:t>，分期、分批进行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4227480"/>
            <a:ext cx="868680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华文新魏"/>
              </a:rPr>
              <a:t>、完成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华文新魏"/>
              </a:rPr>
              <a:t>:</a:t>
            </a:r>
            <a:r>
              <a:rPr b="1" lang="zh-CN" sz="4400" spc="-1" strike="noStrike" u="sng">
                <a:solidFill>
                  <a:srgbClr val="006600"/>
                </a:solidFill>
                <a:uFillTx/>
                <a:latin typeface="Arial"/>
                <a:ea typeface="华文新魏"/>
              </a:rPr>
              <a:t>1953</a:t>
            </a:r>
            <a:r>
              <a:rPr b="1" lang="zh-CN" sz="4400" spc="-1" strike="noStrike" u="sng">
                <a:solidFill>
                  <a:srgbClr val="006600"/>
                </a:solidFill>
                <a:uFillTx/>
                <a:latin typeface="Arial"/>
                <a:ea typeface="华文新魏"/>
              </a:rPr>
              <a:t>年春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华文新魏"/>
              </a:rPr>
              <a:t>新解放区广大农村基本完成土地改革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5113080"/>
          </a:xfrm>
          <a:prstGeom prst="rect">
            <a:avLst/>
          </a:prstGeom>
          <a:ln w="9360">
            <a:solidFill>
              <a:srgbClr val="ff6600"/>
            </a:solidFill>
            <a:miter/>
          </a:ln>
        </p:spPr>
      </p:pic>
      <p:sp>
        <p:nvSpPr>
          <p:cNvPr id="176" name=""/>
          <p:cNvSpPr/>
          <p:nvPr/>
        </p:nvSpPr>
        <p:spPr>
          <a:xfrm>
            <a:off x="3295800" y="5877000"/>
            <a:ext cx="61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《中华人民共和国土地改革法》颁布，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Arial"/>
              </a:rPr>
              <a:t>得到农民群众的热烈拥护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47040" cy="19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华文新魏"/>
                <a:ea typeface="华文新魏"/>
              </a:rPr>
              <a:t>第一单元 中华人民共和国的成立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2492280"/>
            <a:ext cx="101538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华文新魏"/>
              </a:rPr>
              <a:t>            </a:t>
            </a: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华文新魏"/>
              </a:rPr>
              <a:t>第</a:t>
            </a: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华文新魏"/>
              </a:rPr>
              <a:t>2</a:t>
            </a: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华文新魏"/>
              </a:rPr>
              <a:t>课  </a:t>
            </a:r>
            <a:endParaRPr b="0" lang="en-US" sz="6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华文新魏"/>
              </a:rPr>
              <a:t>      </a:t>
            </a: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华文新魏"/>
              </a:rPr>
              <a:t>巩固新政权的措施</a:t>
            </a:r>
            <a:endParaRPr b="0" lang="en-US" sz="6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5715000"/>
            <a:ext cx="2362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0" y="549360"/>
            <a:ext cx="9144000" cy="5040360"/>
          </a:xfrm>
          <a:prstGeom prst="rect">
            <a:avLst/>
          </a:prstGeom>
          <a:ln w="15840">
            <a:solidFill>
              <a:srgbClr val="8080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1258920" y="5661000"/>
            <a:ext cx="698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划分阶级成份是土改的主要步骤之一，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这是江苏省林隐乡第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5</a:t>
            </a:r>
            <a:r>
              <a:rPr b="1" lang="zh-CN" sz="2800" spc="-1" strike="noStrike">
                <a:solidFill>
                  <a:srgbClr val="cc0000"/>
                </a:solidFill>
                <a:latin typeface="华文中宋"/>
                <a:ea typeface="华文中宋"/>
              </a:rPr>
              <a:t>村公布的阶级划分榜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4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620640"/>
            <a:ext cx="9144000" cy="5256360"/>
          </a:xfrm>
          <a:prstGeom prst="rect">
            <a:avLst/>
          </a:prstGeom>
          <a:ln w="15840">
            <a:solidFill>
              <a:srgbClr val="993300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611280" y="602136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中宋"/>
              </a:rPr>
              <a:t>土地改革时，农民正在拔除地主立的界碑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1979640" y="142920"/>
            <a:ext cx="5040360" cy="6165720"/>
          </a:xfrm>
          <a:prstGeom prst="rect">
            <a:avLst/>
          </a:prstGeom>
          <a:ln w="12600">
            <a:solidFill>
              <a:srgbClr val="ff00ff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1763640" y="627840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中宋"/>
              </a:rPr>
              <a:t>北京郊区的农民开会斗争地主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8893080" cy="5113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2268360" y="6093000"/>
            <a:ext cx="48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华文中宋"/>
              </a:rPr>
              <a:t>湖南岳阳农民烧地契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30492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Verdana"/>
                <a:ea typeface="华文行楷"/>
              </a:rPr>
              <a:t>4</a:t>
            </a:r>
            <a:r>
              <a:rPr b="1" lang="zh-CN" sz="5400" spc="-1" strike="noStrike">
                <a:solidFill>
                  <a:srgbClr val="a50021"/>
                </a:solidFill>
                <a:latin typeface="Verdana"/>
                <a:ea typeface="华文行楷"/>
              </a:rPr>
              <a:t>、土地改革的历史意义</a:t>
            </a:r>
            <a:endParaRPr b="0" lang="en-US" sz="5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12193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6600"/>
                </a:solidFill>
                <a:latin typeface="Arial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华文新魏"/>
              </a:rPr>
              <a:t>）、土地改革的完成，彻底废除了我国延续了两千多年的封建土地制度，消灭了地主阶级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29718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华文新魏"/>
              </a:rPr>
              <a:t>）、农民成为土地的主人，生产积极性提高，农村生产力得到解放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" y="42940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华文新魏"/>
              </a:rPr>
              <a:t>（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华文新魏"/>
              </a:rPr>
              <a:t>）、加速了国民经济的恢复和发展，巩固了新生政权，为新中国的工业化开辟了道路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971640" y="770040"/>
            <a:ext cx="7488000" cy="5122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91" name=""/>
          <p:cNvSpPr/>
          <p:nvPr/>
        </p:nvSpPr>
        <p:spPr>
          <a:xfrm>
            <a:off x="1905120" y="6149880"/>
            <a:ext cx="540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分得土地的农民兴高采烈</a:t>
            </a:r>
            <a:r>
              <a:rPr b="1" lang="zh-CN" sz="3600" spc="-1" strike="noStrike">
                <a:solidFill>
                  <a:srgbClr val="cc3300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41440" y="189000"/>
            <a:ext cx="835164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巩固新政权的措施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一、抗美援朝，保家卫国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、中国参战的原因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、经过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二、土地改革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1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、土地改革的必要性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、土地改革法的颁布和土地改革经过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华文新魏"/>
              </a:rPr>
              <a:t>、</a:t>
            </a:r>
            <a:r>
              <a:rPr b="1" lang="zh-CN" sz="3600" spc="-1" strike="noStrike" u="sng">
                <a:solidFill>
                  <a:srgbClr val="cc0000"/>
                </a:solidFill>
                <a:uFillTx/>
                <a:latin typeface="Arial"/>
                <a:ea typeface="华文新魏"/>
              </a:rPr>
              <a:t>土地改革的意义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514600" y="152280"/>
            <a:ext cx="4724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a50021"/>
                </a:solidFill>
                <a:latin typeface="Verdana"/>
                <a:ea typeface="华文新魏"/>
              </a:rPr>
              <a:t>巩固练习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143000"/>
            <a:ext cx="8534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Verdana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a50021"/>
                </a:solidFill>
                <a:latin typeface="Verdana"/>
                <a:ea typeface="华文新魏"/>
              </a:rPr>
              <a:t>、按时间先后顺序排列下列事件</a:t>
            </a:r>
            <a:r>
              <a:rPr b="1" lang="zh-CN" sz="4400" spc="-1" strike="noStrike">
                <a:solidFill>
                  <a:srgbClr val="a50021"/>
                </a:solidFill>
                <a:latin typeface="Verdana"/>
                <a:ea typeface="华文新魏"/>
              </a:rPr>
              <a:t>:</a:t>
            </a:r>
            <a:r>
              <a:rPr b="1" lang="zh-CN" sz="4400" spc="-1" strike="noStrike">
                <a:solidFill>
                  <a:srgbClr val="006600"/>
                </a:solidFill>
                <a:latin typeface="Verdana"/>
                <a:ea typeface="华文新魏"/>
              </a:rPr>
              <a:t>   A</a:t>
            </a:r>
            <a:r>
              <a:rPr b="1" lang="zh-CN" sz="4400" spc="-1" strike="noStrike">
                <a:solidFill>
                  <a:srgbClr val="006600"/>
                </a:solidFill>
                <a:latin typeface="Verdana"/>
                <a:ea typeface="华文新魏"/>
              </a:rPr>
              <a:t>、西藏的和平解放；                 </a:t>
            </a:r>
            <a:r>
              <a:rPr b="1" lang="zh-CN" sz="4400" spc="-1" strike="noStrike">
                <a:solidFill>
                  <a:srgbClr val="006600"/>
                </a:solidFill>
                <a:latin typeface="Verdana"/>
                <a:ea typeface="华文新魏"/>
              </a:rPr>
              <a:t>B</a:t>
            </a:r>
            <a:r>
              <a:rPr b="1" lang="zh-CN" sz="4400" spc="-1" strike="noStrike">
                <a:solidFill>
                  <a:srgbClr val="006600"/>
                </a:solidFill>
                <a:latin typeface="Verdana"/>
                <a:ea typeface="华文新魏"/>
              </a:rPr>
              <a:t>、中国人民志愿军赴朝作战；     </a:t>
            </a:r>
            <a:r>
              <a:rPr b="1" lang="zh-CN" sz="4400" spc="-1" strike="noStrike">
                <a:solidFill>
                  <a:srgbClr val="006600"/>
                </a:solidFill>
                <a:latin typeface="Verdana"/>
                <a:ea typeface="华文新魏"/>
              </a:rPr>
              <a:t>C</a:t>
            </a:r>
            <a:r>
              <a:rPr b="1" lang="zh-CN" sz="4400" spc="-1" strike="noStrike">
                <a:solidFill>
                  <a:srgbClr val="006600"/>
                </a:solidFill>
                <a:latin typeface="Verdana"/>
                <a:ea typeface="华文新魏"/>
              </a:rPr>
              <a:t>、土地改革的完成；                </a:t>
            </a:r>
            <a:r>
              <a:rPr b="1" lang="zh-CN" sz="4400" spc="-1" strike="noStrike">
                <a:solidFill>
                  <a:srgbClr val="006600"/>
                </a:solidFill>
                <a:latin typeface="Verdana"/>
                <a:ea typeface="华文新魏"/>
              </a:rPr>
              <a:t>D</a:t>
            </a:r>
            <a:r>
              <a:rPr b="1" lang="zh-CN" sz="4400" spc="-1" strike="noStrike">
                <a:solidFill>
                  <a:srgbClr val="006600"/>
                </a:solidFill>
                <a:latin typeface="Verdana"/>
                <a:ea typeface="华文新魏"/>
              </a:rPr>
              <a:t>、抗美援朝战争胜利结束。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4800600"/>
            <a:ext cx="66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Verdana"/>
                <a:ea typeface="华文新魏"/>
              </a:rPr>
              <a:t>(B</a:t>
            </a:r>
            <a:r>
              <a:rPr b="1" lang="zh-CN" sz="6000" spc="-1" strike="noStrike">
                <a:solidFill>
                  <a:srgbClr val="a50021"/>
                </a:solidFill>
                <a:latin typeface="Verdana"/>
                <a:ea typeface="华文新魏"/>
              </a:rPr>
              <a:t>、</a:t>
            </a:r>
            <a:r>
              <a:rPr b="1" lang="en-US" sz="6000" spc="-1" strike="noStrike">
                <a:solidFill>
                  <a:srgbClr val="a50021"/>
                </a:solidFill>
                <a:latin typeface="Verdana"/>
                <a:ea typeface="华文新魏"/>
              </a:rPr>
              <a:t>A</a:t>
            </a:r>
            <a:r>
              <a:rPr b="1" lang="zh-CN" sz="6000" spc="-1" strike="noStrike">
                <a:solidFill>
                  <a:srgbClr val="a50021"/>
                </a:solidFill>
                <a:latin typeface="Verdana"/>
                <a:ea typeface="华文新魏"/>
              </a:rPr>
              <a:t>、</a:t>
            </a:r>
            <a:r>
              <a:rPr b="1" lang="en-US" sz="6000" spc="-1" strike="noStrike">
                <a:solidFill>
                  <a:srgbClr val="a50021"/>
                </a:solidFill>
                <a:latin typeface="Verdana"/>
                <a:ea typeface="华文新魏"/>
              </a:rPr>
              <a:t>C</a:t>
            </a:r>
            <a:r>
              <a:rPr b="1" lang="zh-CN" sz="6000" spc="-1" strike="noStrike">
                <a:solidFill>
                  <a:srgbClr val="a50021"/>
                </a:solidFill>
                <a:latin typeface="Verdana"/>
                <a:ea typeface="华文新魏"/>
              </a:rPr>
              <a:t>、</a:t>
            </a:r>
            <a:r>
              <a:rPr b="1" lang="en-US" sz="6000" spc="-1" strike="noStrike">
                <a:solidFill>
                  <a:srgbClr val="a50021"/>
                </a:solidFill>
                <a:latin typeface="Verdana"/>
                <a:ea typeface="华文新魏"/>
              </a:rPr>
              <a:t>D)</a:t>
            </a:r>
            <a:endParaRPr b="0" lang="en-US" sz="6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9640" y="4221000"/>
            <a:ext cx="8305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华文新魏"/>
              </a:rPr>
              <a:t>3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华文新魏"/>
              </a:rPr>
              <a:t>、我国彻底废除存在了两千多年的封建土地制度的标志性事件是－－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华文新魏"/>
              </a:rPr>
              <a:t>－－－－－－－－－－－－－－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380880"/>
            <a:ext cx="807732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华文新魏"/>
              </a:rPr>
              <a:t>1950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华文新魏"/>
              </a:rPr>
              <a:t>年，中央人民政府颁布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Wingdings"/>
                <a:ea typeface="Wingdings"/>
              </a:rPr>
              <a:t>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华文新魏"/>
              </a:rPr>
              <a:t>----------------------&gt;</a:t>
            </a: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华文新魏"/>
              </a:rPr>
              <a:t>，它规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华文新魏"/>
              </a:rPr>
              <a:t>定废除地主阶级－－－－－的土地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Verdana"/>
                <a:ea typeface="华文新魏"/>
              </a:rPr>
              <a:t>所有制，实行－－－－－－－－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5640" y="5373720"/>
            <a:ext cx="6629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Verdana"/>
                <a:ea typeface="华文新魏"/>
              </a:rPr>
              <a:t>1953</a:t>
            </a:r>
            <a:r>
              <a:rPr b="1" lang="zh-CN" sz="4000" spc="-1" strike="noStrike">
                <a:solidFill>
                  <a:srgbClr val="006600"/>
                </a:solidFill>
                <a:latin typeface="Verdana"/>
                <a:ea typeface="华文新魏"/>
              </a:rPr>
              <a:t>年春土地改革的完成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68360" y="105264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Verdana"/>
                <a:ea typeface="华文新魏"/>
              </a:rPr>
              <a:t>中华人民共和国土地改革法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284720" y="2060640"/>
            <a:ext cx="2362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Verdana"/>
                <a:ea typeface="华文新魏"/>
              </a:rPr>
              <a:t>封建剥削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35280" y="2997360"/>
            <a:ext cx="4496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Verdana"/>
                <a:ea typeface="华文新魏"/>
              </a:rPr>
              <a:t>农民的土地所有制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42920" y="981000"/>
            <a:ext cx="727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华文新魏"/>
              </a:rPr>
              <a:t>巩固新政权的措施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1116000" y="2565360"/>
            <a:ext cx="669600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华文新魏"/>
              </a:rPr>
              <a:t>一、抗美援朝，保家卫国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4560" y="3860640"/>
            <a:ext cx="6049800" cy="76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华文新魏"/>
              </a:rPr>
              <a:t>二、土地改革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39640" y="1773360"/>
            <a:ext cx="7632720" cy="3600360"/>
          </a:xfrm>
          <a:prstGeom prst="cloudCallout">
            <a:avLst>
              <a:gd name="adj1" fmla="val -17180"/>
              <a:gd name="adj2" fmla="val 68296"/>
            </a:avLst>
          </a:prstGeom>
          <a:solidFill>
            <a:srgbClr val="ffff99"/>
          </a:solidFill>
          <a:ln w="9360">
            <a:solidFill>
              <a:srgbClr val="08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19280" y="2492280"/>
            <a:ext cx="5616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新政权尚未巩固，中国人民志愿军为什么要赴朝作战？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71640" y="692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阅读课文回答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046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华文新魏"/>
              </a:rPr>
              <a:t>一、抗美援朝保家卫国</a:t>
            </a:r>
            <a:r>
              <a:rPr b="1" lang="zh-CN" sz="4400" spc="-1" strike="noStrike">
                <a:solidFill>
                  <a:srgbClr val="0066ff"/>
                </a:solidFill>
                <a:latin typeface="Arial"/>
                <a:ea typeface="华文新魏"/>
              </a:rPr>
              <a:t>(1950-1953)</a:t>
            </a:r>
            <a:endParaRPr b="0" lang="en-US" sz="4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413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华文新魏"/>
              </a:rPr>
              <a:t>   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新魏"/>
              </a:rPr>
              <a:t>1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新魏"/>
              </a:rPr>
              <a:t>、中国参战的原因</a:t>
            </a:r>
            <a:r>
              <a:rPr b="0" lang="zh-CN" sz="4000" spc="-1" strike="noStrike">
                <a:solidFill>
                  <a:srgbClr val="0066ff"/>
                </a:solidFill>
                <a:latin typeface="Arial"/>
                <a:ea typeface="华文新魏"/>
              </a:rPr>
              <a:t>：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1280" y="2276640"/>
            <a:ext cx="7491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Arial"/>
                <a:ea typeface="华文新魏"/>
              </a:rPr>
              <a:t>  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新魏"/>
              </a:rPr>
              <a:t>A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新魏"/>
              </a:rPr>
              <a:t>、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新魏"/>
              </a:rPr>
              <a:t>1950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新魏"/>
              </a:rPr>
              <a:t>年，朝鲜内战爆发，美国入侵朝鲜，打到中国边境，派第七舰队入侵台湾海峡，严重威胁我国的安全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508464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新魏"/>
              </a:rPr>
              <a:t>B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华文新魏"/>
              </a:rPr>
              <a:t>、朝鲜请求中国政府派兵援助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295280" y="6094440"/>
            <a:ext cx="709308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美国总统杜鲁门宣布武装干涉朝鲜</a:t>
            </a:r>
            <a:r>
              <a:rPr b="1" lang="zh-CN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rcRect l="2758" t="4800" r="3933" b="1096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10" name=""/>
          <p:cNvSpPr/>
          <p:nvPr/>
        </p:nvSpPr>
        <p:spPr>
          <a:xfrm>
            <a:off x="1676520" y="6205680"/>
            <a:ext cx="5271840" cy="642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新魏"/>
                <a:ea typeface="华文新魏"/>
              </a:rPr>
              <a:t>美军把战火烧到鸭绿江边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12" name=""/>
          <p:cNvSpPr/>
          <p:nvPr/>
        </p:nvSpPr>
        <p:spPr>
          <a:xfrm>
            <a:off x="2351160" y="5791320"/>
            <a:ext cx="459720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  <a:ea typeface="黑体"/>
              </a:rPr>
              <a:t>  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华文新魏"/>
              </a:rPr>
              <a:t>美国空军飞机对中国东北边境地区进行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华文新魏"/>
              </a:rPr>
              <a:t>轰炸扫射。图为安东（今丹东）被炸一景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2T07:24:15Z</dcterms:created>
  <dc:creator>苏延松</dc:creator>
  <dc:description/>
  <dc:language>en-US</dc:language>
  <cp:lastModifiedBy>User</cp:lastModifiedBy>
  <dcterms:modified xsi:type="dcterms:W3CDTF">2015-04-29T01:53:54Z</dcterms:modified>
  <cp:revision>200</cp:revision>
  <dc:subject/>
  <dc:title>第18课 中华人民共和国成立</dc:title>
</cp:coreProperties>
</file>